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6E7D-6A89-436B-9321-B702AA38A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5600-4CAC-4758-A6F4-4A91249D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C6C5-822A-418A-9AAA-EBB008EF9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4E28-01DE-4165-BBEB-48969E9D2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9D9C-BB71-407E-A0BC-4B4F4F43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356D-7521-4696-BA1B-0E8562AA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F36B-4516-43F1-998E-C21BE7E6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7CAC-CAB6-4A62-9C10-222217C7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CD53-4222-4355-A53F-0CB0A7CD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7627-C317-4C91-84D0-F5702770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DA4B-24F3-48CB-BDB3-E0CCFAF5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8DF3-17E1-41E9-BC4B-AD47B588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BS_PPoint4x3Purple_TLlogo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7938-8CC9-4FD2-A9B0-939842F89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ing online instructors and assessing their instru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Barb Storan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ALTA Solutions Group, L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Lia Dos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PBS Teacher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LaRay Ma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PBS Teacher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 I and Level I reflection 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BS TL’s course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 I and Level II course re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er rating cover 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altasolutionsgroup.com/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a Dossin, facilitator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ay Mason, experienced online cours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ed in the review process as a course instr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ubtitle 3"/>
          <p:cNvSpPr/>
          <p:nvPr/>
        </p:nvSpPr>
        <p:spPr>
          <a:xfrm>
            <a:off x="1143000" y="1600200"/>
            <a:ext cx="7010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Barb Storan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040"/>
                </a:solidFill>
                <a:latin typeface="Arial"/>
              </a:rPr>
              <a:t>ALTA Solutions Group, L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68"/>
                </a:solidFill>
                <a:latin typeface="Arial"/>
              </a:rPr>
              <a:t>Barb@altasolutionsgroup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Lia Dos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040"/>
                </a:solidFill>
                <a:latin typeface="Arial"/>
              </a:rPr>
              <a:t>PBS Teacher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68"/>
                </a:solidFill>
                <a:latin typeface="Arial"/>
              </a:rPr>
              <a:t>lcdossin@pb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LaRay Ma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040"/>
                </a:solidFill>
                <a:latin typeface="Arial"/>
              </a:rPr>
              <a:t>PBS Teacher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68"/>
                </a:solidFill>
                <a:latin typeface="Arial"/>
              </a:rPr>
              <a:t>lmason48@comcast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nt poll – What are you hoping to gain from this se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PBS Teacher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, graduate level courses (scheduled, facilitated, asynchronous)  for PreK–12 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ed, certified facilitators lead more than 90 top-quality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-week courses that span the entire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 experts collaborated to develop courses of the highest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PBS_PPoint4x3Purple_TLlog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ilitation Program ~ Recrui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facilitators have Master’s Degree or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 online learning experience either as facilitator or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ed by local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pass TL Online Facilitator Training regardless of previous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ilitation Program~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Facilit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00 national facilitators that facilitate one or more course(s) per yea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alf have been teaching online at least 5 yea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6.3% of our facilitators have a CAS/EdS or Ph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51% facilitate course for other online provid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00% have experience as online learn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ilitation Program~ Training and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professional learning community (FU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erly faculty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acilitator men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er sh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re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courses (OFT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urse Review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ive/summ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-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entives – facilitators and lear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ilitator Compete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5341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ven Eff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ators rate TeacherLine’s PD high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ers rate facilitators’ performance high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ators have few unmet learning needs related to online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ators positioned PBS TeacherLine’s PD as demonstrating innovation and best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5:36:49Z</dcterms:created>
  <dc:creator>Christine Kellmurray</dc:creator>
  <dc:description/>
  <dc:language>en-US</dc:language>
  <cp:lastModifiedBy>Barbara Storandt</cp:lastModifiedBy>
  <dcterms:modified xsi:type="dcterms:W3CDTF">2010-11-16T17:47:18Z</dcterms:modified>
  <cp:revision>22</cp:revision>
  <dc:subject/>
  <dc:title>PowerPoint Presentation</dc:title>
</cp:coreProperties>
</file>